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CBDF-9191-4622-8348-B037978AF4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536E-CE0C-4D8F-91E4-714269EA6A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9881-79AF-449D-BCAF-75576D01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E04-F074-428D-B552-29249913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B82-622B-4C92-9B53-DE50A148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0825-BE87-401E-94F7-5365507E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ABA7-4CBB-4449-BA42-2DCC0B69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9278-E8E8-4323-BEBD-CAB640C7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D627-5C67-4419-9144-99687763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18F6-3687-411C-9F7E-CFE1EA1F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56D1-7A5F-4065-ACF4-AFCCCCCA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9ABD-3389-4697-9B99-66C2950D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0AC5-8F96-4E12-B9FE-DA21709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457-5199-4062-9F63-16C33F5A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A810-5012-4CD2-A096-0CDCAA7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C7FC-09F0-49BB-8C83-70ACD9AA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3A3-9082-49C4-8379-CDF0978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C377-C2AA-4DE2-8F15-A224DE89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C6C4-2589-4D51-B494-AD7F5631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EED0-6F9C-4532-ADA8-04B7E8F1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E1CB-E5D8-46F5-9013-058284CC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512AE-14FE-466A-8097-25C44D72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1A84-F81C-4884-A6AC-D86553B5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C47A-A2AB-47AA-9553-9D2D866C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F5D-CAEA-4970-A2AD-C883319A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930FB-E8C4-42E0-97C8-9FB097A7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9CB79-D6E0-4EDD-B4F9-D8C4AD8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06A7-34FF-44CC-AAC5-91235FF7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20AE8-716F-458F-A034-6473A1EE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E63C-D9D4-4932-9B6D-4BB6CBBE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108A1-7B30-458E-A206-10F2ADECF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2EFB-E3F0-495A-8A9D-1798AEA4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0924-B806-402B-9312-95ABC7F3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D50D-400D-4695-A43E-3097A6EF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3BF7-4E52-4F7A-963E-A4171A66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F36-DE7A-4C37-B990-CACB07B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284AA-99E6-4C23-9D76-23A8B8A5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1D24D-C5C7-471D-8A43-3A052D1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76836-9FC4-4A9C-8ADB-8CF4509E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1BB0-F33F-474A-9C92-92E4D6AB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24C5-C318-42A1-89B6-1BF7D22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838DF-4DC1-4300-8C78-7B5A5561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B8BD5-AC6E-4CAB-97E7-80824C23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ED745-E960-4211-B939-CADF50D0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CB5C-2487-4464-AC21-4D4B0D28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ABA48-EDCB-4250-BC63-3768E9AF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A5D-5F1F-4331-BDF6-4708AC29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1630F-4C3F-4C4E-B4F6-C132396F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80C7C-26AA-4D55-9290-A5EBF1CB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7E2CB-E88B-4062-9B24-F1E9C9C8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B05C-4126-4B94-8607-8E4155DB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091E-A73B-454B-A9CD-0AAD9A4A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F5A13-5820-4E24-A893-4D7E9A7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3EC04-D00F-4114-9E1F-47B5C6D9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ACE54-CC1F-49F0-B39B-D5D4DD7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B5667-AA79-44DD-9A23-9AEDF0F1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C2EF5-32A4-4954-8824-6F051CD6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61A-09AB-4C5A-B92D-F1334092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455E-7F46-4FF6-B754-C77503B0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E07-A8C5-4DE6-8B17-EA2E745D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B00-8076-4C8D-926A-6998CC3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EF1-7525-42C1-BC71-567D3206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9303-4FA2-41B2-9394-C366983E5F1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A06C-1B70-40AF-B07B-AA5EB81B218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B07-750C-446C-8278-8CBB40AB155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3F8-C442-41E6-877B-64BD920E2C6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C653-977E-42AA-8763-7912C18B4D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Тема  Морские просторы\12538ee1109f5012f56798dece3w-derevo-korabl.jpg"/>
          <p:cNvPicPr/>
          <p:nvPr/>
        </p:nvPicPr>
        <p:blipFill>
          <a:blip r:embed="rId2"/>
          <a:stretch/>
        </p:blipFill>
        <p:spPr>
          <a:xfrm>
            <a:off x="3203640" y="2708280"/>
            <a:ext cx="5006880" cy="3900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79995\Desktop\изонить\Тема  Морские просторы\7dcc763d749d5a63775c0fecaffd8c74.jpg"/>
          <p:cNvPicPr/>
          <p:nvPr/>
        </p:nvPicPr>
        <p:blipFill>
          <a:blip r:embed="rId3"/>
          <a:stretch/>
        </p:blipFill>
        <p:spPr>
          <a:xfrm>
            <a:off x="395280" y="2637000"/>
            <a:ext cx="223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C:\Users\79995\Desktop\изонить\Тема  Морские просторы 2\U15_06-07a09.jpg"/>
          <p:cNvPicPr/>
          <p:nvPr/>
        </p:nvPicPr>
        <p:blipFill>
          <a:blip r:embed="rId1"/>
          <a:stretch/>
        </p:blipFill>
        <p:spPr>
          <a:xfrm>
            <a:off x="1332000" y="1000080"/>
            <a:ext cx="6286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4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5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C:\Users\79995\Desktop\изонить\Тема  Морские просторы\368823.jpg"/>
          <p:cNvPicPr/>
          <p:nvPr/>
        </p:nvPicPr>
        <p:blipFill>
          <a:blip r:embed="rId1"/>
          <a:stretch/>
        </p:blipFill>
        <p:spPr>
          <a:xfrm>
            <a:off x="755640" y="1197000"/>
            <a:ext cx="74754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79995\Desktop\изонить\Тема  Морские просторы\e88aa9edf47a1b434f674b817646d918.jpg"/>
          <p:cNvPicPr/>
          <p:nvPr/>
        </p:nvPicPr>
        <p:blipFill>
          <a:blip r:embed="rId1"/>
          <a:stretch/>
        </p:blipFill>
        <p:spPr>
          <a:xfrm>
            <a:off x="395280" y="1052640"/>
            <a:ext cx="4105440" cy="5472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79995\Desktop\изонить\Тема  Морские просторы\eeaac8ad44d80de26c0a8bb3d49f9304.jpg"/>
          <p:cNvPicPr/>
          <p:nvPr/>
        </p:nvPicPr>
        <p:blipFill>
          <a:blip r:embed="rId2"/>
          <a:stretch/>
        </p:blipFill>
        <p:spPr>
          <a:xfrm>
            <a:off x="4788000" y="1052640"/>
            <a:ext cx="41450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324000" y="404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Морские простор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Users\79995\Desktop\изонить\Тема  Морские просторы\img5.jpg"/>
          <p:cNvPicPr/>
          <p:nvPr/>
        </p:nvPicPr>
        <p:blipFill>
          <a:blip r:embed="rId1"/>
          <a:stretch/>
        </p:blipFill>
        <p:spPr>
          <a:xfrm>
            <a:off x="1187280" y="1197000"/>
            <a:ext cx="7086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2-05T11:30:34Z</dcterms:modified>
  <cp:revision>36</cp:revision>
  <dc:subject/>
  <dc:title>ТВОРЧЕСКАЯ ДЕЯТЕЛЬНОСТЬ: ЗНАКОМСТВО С ТЕХНИКОЙ ИЗОНИТЬ</dc:title>
</cp:coreProperties>
</file>